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238640" y="28576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7037280" y="4586400"/>
          <a:ext cx="2868840" cy="22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7280" y="4586400"/>
                    <a:ext cx="286884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914040"/>
            <a:ext cx="6781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Gill Sans"/>
              </a:rPr>
              <a:t>Segurança &amp; Auditoria de Sistemas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Gill Sans"/>
              </a:rPr>
              <a:t>AULA 0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41911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ahoma"/>
              </a:rPr>
              <a:t>Eduardo Silvest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Tahoma"/>
              </a:rPr>
              <a:t>www.eduardosilvestri.com.b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2722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722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79320" y="990720"/>
            <a:ext cx="85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ill Sans"/>
                <a:ea typeface="굴림"/>
              </a:rPr>
              <a:t>Dicionário da Seguranç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676520"/>
            <a:ext cx="8458200" cy="0"/>
          </a:xfrm>
          <a:prstGeom prst="line">
            <a:avLst/>
          </a:prstGeom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1828800"/>
            <a:ext cx="7924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814400"/>
            <a:ext cx="876312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IDS – Intrusion Detection System –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É um sistema de detecção de intrusão, um software responsável por monitorar uma rede ou Sistema e alerta sobre possíveis invasõ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Invasã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– Caracteriza um ataque bem suced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amm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– É uma palavra que os hacker utilizam para identificar os indivíduos que se acham hacker, mas ainda estão no estagio inicial do aprendiz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Sniff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– Ferramenta que serve para monitorar e gravar pacotes que trafegam pela re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2120" y="1676520"/>
            <a:ext cx="8458200" cy="0"/>
          </a:xfrm>
          <a:prstGeom prst="line">
            <a:avLst/>
          </a:prstGeom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61080" y="304812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838080"/>
            <a:ext cx="8915400" cy="60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0000"/>
                </a:solidFill>
                <a:latin typeface="Courier New"/>
              </a:rPr>
              <a:t>Per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Diferencie Hacker, Cracker e La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O que é um sniffer e para que é utilizad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O que é um ID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O que é um Back Door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Descreve Cavalo de Trói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0000"/>
                </a:solidFill>
                <a:latin typeface="Courier New"/>
              </a:rPr>
              <a:t>Publicaçõ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apa Conceitual da A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1676520"/>
            <a:ext cx="8458200" cy="0"/>
          </a:xfrm>
          <a:prstGeom prst="line">
            <a:avLst/>
          </a:prstGeom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1828800"/>
            <a:ext cx="7924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9144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apa Conceit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76520"/>
            <a:ext cx="8458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Arial"/>
              </a:rPr>
              <a:t>Cada pessoa forma uma imagem mental de um cenário. Quando um indivíduo internaliza uma cena esta é expressa nos seus próprios termos, de forma que mais tarde seja capaz de traze-la a sua mente com maior riqueza de detalhes. Hoje há quase que um consenso que a motivação para aprender e a construção estruturada do conhecimento é uma característica muito pesso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2120" y="1676520"/>
            <a:ext cx="8458200" cy="0"/>
          </a:xfrm>
          <a:prstGeom prst="line">
            <a:avLst/>
          </a:prstGeom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1828800"/>
            <a:ext cx="7924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7621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apa Conceit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9810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Arial"/>
              </a:rPr>
              <a:t>Pode-se elaborar mapas conceituais a partir de conceitos soltos, por exemplos </a:t>
            </a: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Informação Sonora </a:t>
            </a:r>
            <a:r>
              <a:rPr b="0" lang="pt-BR" sz="2800" spc="-1" strike="noStrike">
                <a:solidFill>
                  <a:srgbClr val="3333cc"/>
                </a:solidFill>
                <a:latin typeface="Arial"/>
              </a:rPr>
              <a:t>ou um paragrafo de um capitulo de um livro texto. O Conceito mais geral deve vir no alto da representação, e os mais específicos ligados a este e aos demais por linhas/palavras de ligaçã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1828800"/>
            <a:ext cx="7924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61080" y="304812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981080" y="0"/>
          <a:ext cx="5166000" cy="670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0"/>
                    <a:ext cx="516600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447560" y="4114440"/>
            <a:ext cx="647676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"/>
              </a:rPr>
              <a:t>www.eduardosilvestri.com.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Gill Sans"/>
              </a:rPr>
              <a:t>Eduardo Silvest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Gill Sans"/>
              </a:rPr>
              <a:t>silvestri@eduardosilvestri.com.b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ill Sans"/>
              </a:rPr>
              <a:t>Dúvi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048120" y="1219320"/>
          <a:ext cx="358128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219320"/>
                    <a:ext cx="35812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9320" y="990720"/>
            <a:ext cx="85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Gill Sans"/>
                <a:ea typeface="굴림"/>
              </a:rPr>
              <a:t>Situando a Seguranç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676520"/>
            <a:ext cx="8458200" cy="0"/>
          </a:xfrm>
          <a:prstGeom prst="line">
            <a:avLst/>
          </a:prstGeom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"/>
                <a:ea typeface="굴림"/>
              </a:rPr>
              <a:t>Milhões de Corporações, empresas, instituições 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"/>
                <a:ea typeface="굴림"/>
              </a:rPr>
              <a:t>usuários domésticos estão usando a Internet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"/>
                <a:ea typeface="굴림"/>
              </a:rPr>
              <a:t>fazer transações bancárias, comercio eletrônic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"/>
                <a:ea typeface="굴림"/>
              </a:rPr>
              <a:t>etc. Portanto, segurança hoje, é um proble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"/>
                <a:ea typeface="굴림"/>
              </a:rPr>
              <a:t>potencial cri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9320" y="990720"/>
            <a:ext cx="85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Gill Sans"/>
                <a:ea typeface="굴림"/>
              </a:rPr>
              <a:t>O que é Informação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676520"/>
            <a:ext cx="8458200" cy="0"/>
          </a:xfrm>
          <a:prstGeom prst="line">
            <a:avLst/>
          </a:prstGeom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formação</a:t>
            </a:r>
            <a:r>
              <a:rPr b="0" i="1" lang="pt-PT" sz="3200" spc="-1" strike="noStrike">
                <a:solidFill>
                  <a:srgbClr val="000000"/>
                </a:solidFill>
                <a:latin typeface="Arial"/>
              </a:rPr>
              <a:t> é um recurso que, como outr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ortantes recursos </a:t>
            </a:r>
            <a:r>
              <a:rPr b="0" i="1" lang="pt-PT" sz="32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gócios</a:t>
            </a:r>
            <a:r>
              <a:rPr b="0" i="1" lang="pt-PT" sz="3200" spc="-1" strike="noStrike">
                <a:solidFill>
                  <a:srgbClr val="000000"/>
                </a:solidFill>
                <a:latin typeface="Arial"/>
              </a:rPr>
              <a:t>, tem val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000000"/>
                </a:solidFill>
                <a:latin typeface="Arial"/>
              </a:rPr>
              <a:t>a uma organização e por conseguinte preci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000000"/>
                </a:solidFill>
                <a:latin typeface="Arial"/>
              </a:rPr>
              <a:t>ser protegido adequadamente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[BS 7799 -1: 1999, British Standards Institut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79320" y="990720"/>
            <a:ext cx="85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Gill Sans"/>
                <a:ea typeface="굴림"/>
              </a:rPr>
              <a:t>O que é Segurança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676520"/>
            <a:ext cx="8458200" cy="0"/>
          </a:xfrm>
          <a:prstGeom prst="line">
            <a:avLst/>
          </a:prstGeom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egurança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. S. f. 2. Estado, qualidade ou condição de seguro. 3. Condição daquele ou daquilo em que se pode confiar. 4. Certeza, firmeza, convic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eguro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. [Do lat. securu.] Adj. 1. Livre de perigo. 2. Livre de risco; protegido, acautelado, garantido. 8. Em quem se pode confiar. 9. Certo, indubitável, incontestável. 10. Eficaz, eficiente. [Dicionário Auréli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79320" y="990720"/>
            <a:ext cx="85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Gill Sans"/>
                <a:ea typeface="굴림"/>
              </a:rPr>
              <a:t>O que é Segurança da Informação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676520"/>
            <a:ext cx="8458200" cy="0"/>
          </a:xfrm>
          <a:prstGeom prst="line">
            <a:avLst/>
          </a:prstGeom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 Segurança de informação protege a informação  de uma gama extensiva de ameaças para assegurar continuidade dos negócios, minimizar os danos empresariais e maximizar o retorno em investimentos e oportunidades. (..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 segurança da Informação é caracterizada pela preservação da: confidencialidade, integridade e disponibilidade. [BS 7799 -1: 1999, British Standards Institut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79320" y="990720"/>
            <a:ext cx="85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Gill Sans"/>
                <a:ea typeface="굴림"/>
              </a:rPr>
              <a:t>O que é Segurança da Informação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676520"/>
            <a:ext cx="8458200" cy="0"/>
          </a:xfrm>
          <a:prstGeom prst="line">
            <a:avLst/>
          </a:prstGeom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Confidencialidade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egurar que a informação será acessível somente por quem tem autorização de acess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Integridade: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egurar que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informação nã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i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ltera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rante o processo de transporte da informaçã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onibilidad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ssegurar que usuários autorizados tenham acesso as informações e a recursos associados quando requer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79320" y="990720"/>
            <a:ext cx="85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ill Sans"/>
                <a:ea typeface="굴림"/>
              </a:rPr>
              <a:t>Dicionário da Seguranç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1676520"/>
            <a:ext cx="8458200" cy="0"/>
          </a:xfrm>
          <a:prstGeom prst="line">
            <a:avLst/>
          </a:prstGeom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1828800"/>
            <a:ext cx="7924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14400"/>
            <a:ext cx="876312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taque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vento que pode comprometer a segurança de um sistema ou uma rede. Um ataque pode ou não ter sucesso. Um ataque com sucesso caracteriza uma invasã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utenticaçã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– É o processo de se confirmar a identidade de um usuário ou um host, esta pode ser feita de diversas manei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Back Doo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– É um programa escondido, deixado por um intruso, o qual permite futuro acesso a maquina al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Bug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– Uma falha ou fraqueza em programas de comput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79320" y="990720"/>
            <a:ext cx="85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ill Sans"/>
                <a:ea typeface="굴림"/>
              </a:rPr>
              <a:t>Dicionário da Seguranç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1676520"/>
            <a:ext cx="8458200" cy="0"/>
          </a:xfrm>
          <a:prstGeom prst="line">
            <a:avLst/>
          </a:prstGeom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1828800"/>
            <a:ext cx="7924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14400"/>
            <a:ext cx="876312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avalo de Tróia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a aplicação ou codigo que, sem conhecimento do usuário realiza uma tarefa que compromete a segurança de um sistema, em geral, esta aplicação se apresenta ao usuário de forma rotineira e legítim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rack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– Programa utilizado para quebrar licenças de outros programas. Também pode se referir a programas utilizados para quebra de senh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rack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– Individuo com conhecimentos avançados de computação e segurança, que os utiliza para fins criminosos, destruição de dados ou interrupção de siste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838080"/>
            <a:ext cx="85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ill Sans"/>
                <a:ea typeface="굴림"/>
              </a:rPr>
              <a:t>Dicionário da Seguranç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676520"/>
            <a:ext cx="8458200" cy="0"/>
          </a:xfrm>
          <a:prstGeom prst="line">
            <a:avLst/>
          </a:prstGeom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1828800"/>
            <a:ext cx="7924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600200"/>
            <a:ext cx="876312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ngenharia Social –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écnica utilizada por hackers e crackers para obter informações interagindo diretamente com pesso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xploit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– Programa utilizado por hackers e crackers para explorar vulnerabilidade nos sistemas, conseguindo assim acesso com maior privileg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Hack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– Individuo com conhecimentos elevados de computação e segurança, que os utiliza para fins de diversão, interesse, emoção. Em geral, hackers não destroem dados, possuem um código de etica e não buscam ganhos financeiros. O termo hacker é atualmente adotado pela midia de forma indiscriminada, se referindo a crackers por exemp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3T13:10:10Z</dcterms:created>
  <dc:creator>Fabio Meneghim</dc:creator>
  <dc:description/>
  <dc:language>en-US</dc:language>
  <cp:lastModifiedBy>silvestri</cp:lastModifiedBy>
  <dcterms:modified xsi:type="dcterms:W3CDTF">2007-08-21T22:49:26Z</dcterms:modified>
  <cp:revision>43</cp:revision>
  <dc:subject/>
  <dc:title>Autenticação Forte Baseada na Biometria</dc:title>
</cp:coreProperties>
</file>